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51EC-3E21-42FB-BFAA-30BCA3413B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ADBE-8A79-4B27-82CE-9E97B1A58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209-2DD2-4559-8F57-6764E925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129-C7FE-4DD1-8C21-2B3B70F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A66-62B6-4E70-A054-C9B86089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4F4-691F-4FBA-9075-140E10A2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B8D7-8C1D-4E85-96A7-C56B9B38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4197-A8DB-4489-A011-2699F9C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E6C2-FF64-4737-A63E-8598E46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A8BE-30C1-4D28-884F-17B9BCAF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809B-22B6-4DF8-B10E-B2E03D4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3469-4ECE-4850-8BBE-900DCE99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A0C0-39FE-4FE9-88E7-3836C8F9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5C0-E3E6-42BB-B6A5-49CDA97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C585-3560-47D9-A76B-F2B5CC39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5BE4-3527-4A6B-BC21-C4875AB7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3475-289C-4D33-8A9B-C09EFC5B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06B8-A997-421C-B287-3059C36D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244-27B6-4023-9DF1-360D957F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8D72-7EB1-4FFB-A3BC-C864B4D0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EF68-368C-49A4-A8F6-4908554E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D3B3-4DF6-4646-B907-1F264D84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EA08-2EAE-4E31-80BB-74AA1F51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1387-3F26-41F2-8050-096E6D9A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17C-B65A-47A3-A98D-3A07F2EB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567B-3BD9-4250-B497-4813D64D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9AA2-244F-4EFF-A90C-BEB39C0C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4754-3A88-4FE7-B407-01329C3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B7F6-EA43-4EF6-9005-FAF2F8A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A757-5D0C-403B-9339-4C92FD0A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4FD8-D238-4036-B1F7-F35C16A7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19AA-3659-442C-944B-F9805D11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4F8B-BFA3-43D7-BA42-FA032FDF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2DD95-7DFC-4E30-8B06-5AC93379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E6627-0A5C-4143-8FB5-32699A7C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BBC-F849-4DEE-919C-7EE0C8D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67AD-CC5A-4B50-86FD-FCF1A9A5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5531-FEE8-4687-BBC3-EF3F407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1BC49-3C7F-4175-9785-EBB9AD7D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16DC-A235-404A-82FF-343D0802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DF7C-3343-4ADA-8E05-408A2DB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32986-896B-428B-B2DE-920AC68B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3C94-D3FC-466E-BFC7-691AC12C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D07F-009C-45F5-8E4A-960396E8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EA8C-057D-42E8-BB99-5ABE367F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D485-F5C8-4FD5-B6E8-8E81AF43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73C-C484-486D-8273-8D980D0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BF5F-06CE-4637-9ADA-BC29811C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4BC2A-4895-403D-B126-448DFFD2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1A1A-5EC4-45F4-9F7F-1C7C17AD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6ADB1-F68A-43C6-AF6E-7591E058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7774-5803-4705-BCDB-A3E5F5C1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106E-F8F9-4F92-B05C-44E01641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88D0-8326-4E50-A7C4-9085A83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9A4C-89D0-4BDE-AD6C-70782D4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36B29-F6C1-4067-830A-8147B673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9674-325C-4EFD-84E4-4C8FDD98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159-1E94-43C5-95C2-64CCD93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92381-D73E-4EA7-A196-EA067418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940-DA33-49EF-96B0-40E9264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AE2-3D8F-4722-94C7-5AC3B4E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762-899F-4FDC-96F7-120E1FF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9E19-96B7-409B-A801-CAD6616010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DD60-1A36-49AF-911C-A471D24002E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8121-900B-4C23-B585-A28BB907EA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CB31-1E4C-4646-AA6E-FF35E60508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7FA1-F0CB-44F4-8C06-74A04A316D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719440" y="228600"/>
            <a:ext cx="37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МБОУ "СОШ №5» МО «ЛМР»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193920" y="1143000"/>
            <a:ext cx="275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АЯ ПИЦ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90920" y="2438280"/>
            <a:ext cx="4010040" cy="2381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2286000" y="50212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 учи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е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ajedrez-6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371600" y="914400"/>
            <a:ext cx="7162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КРУЖАЮЩИЙ МИ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россворды, загад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219320"/>
            <a:ext cx="39304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Fol03wVIgC-1280x720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учение грамо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423360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Г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А буквой «Г» - так шахматисты говорят   (Конь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рыгнет Конь. Подковы звяк!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еобычен каждый шаг: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«Г» и так и сяк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олучается зигзаг!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09720" y="579600"/>
            <a:ext cx="31734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ногознач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905120"/>
            <a:ext cx="3352680" cy="185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1371600" cy="952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5"/>
          <p:cNvPicPr/>
          <p:nvPr/>
        </p:nvPicPr>
        <p:blipFill>
          <a:blip r:embed="rId4"/>
          <a:stretch/>
        </p:blipFill>
        <p:spPr>
          <a:xfrm>
            <a:off x="8458200" y="1600200"/>
            <a:ext cx="202572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6248520" y="2666880"/>
            <a:ext cx="1247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рафический диктан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дна клеточка вправо – поставьте начальную точку,1 – вправо, 1 – вниз, 1 – вправо, 1 – вверх, 1 – вправо, 1 – вниз, 1 – вправо, 1 – вверх, 1 –вправо, 3 – вниз, 1 – влево, 4 – вниз, 1 – вправо, 2 – вниз, 5 – влево, 2 – вверх, 1 – вправо, 4 – вверх, 1 – влево, 3 – ввер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908600" y="1828800"/>
            <a:ext cx="3628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5c00"/>
                </a:solidFill>
                <a:latin typeface="Verdana"/>
              </a:rPr>
              <a:t>Литературное чт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82800" y="2516040"/>
          <a:ext cx="3578400" cy="1825920"/>
        </p:xfrm>
        <a:graphic>
          <a:graphicData uri="http://schemas.openxmlformats.org/drawingml/2006/table">
            <a:tbl>
              <a:tblPr/>
              <a:tblGrid>
                <a:gridCol w="428760"/>
                <a:gridCol w="449280"/>
                <a:gridCol w="450720"/>
                <a:gridCol w="449280"/>
                <a:gridCol w="450720"/>
                <a:gridCol w="449280"/>
                <a:gridCol w="451080"/>
                <a:gridCol w="44928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" descr="C:\Users\HP\Desktop\pizza-slices-clip-art-images-1024x567.jpg"/>
          <p:cNvPicPr/>
          <p:nvPr/>
        </p:nvPicPr>
        <p:blipFill>
          <a:blip r:embed="rId1"/>
          <a:stretch/>
        </p:blipFill>
        <p:spPr>
          <a:xfrm>
            <a:off x="762120" y="838080"/>
            <a:ext cx="2803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506520" y="523800"/>
            <a:ext cx="3943080" cy="4402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найди словарные слова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обведи их красным цвет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спиши слова в тетрад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обменяйтесь тетрадями с соседом по плеч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роверь сосед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838080" y="1981080"/>
            <a:ext cx="2803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О,ТЕХНОЛОГ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полос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квадра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мме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819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ЯТНОГО АППЕТИТА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40080" cy="3108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295280" y="914040"/>
            <a:ext cx="3322800" cy="446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6103800" y="3657600"/>
            <a:ext cx="3040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304920" y="152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в шахматы вырабатывает в человеке целеустремленность, волю, выносливость, терпение, способность к концентрации внимания, смелость, расчет, умение быстро и правильно принимать решения в меняющейся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304920" y="4572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во всем мире шахматист А.Алехин пис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ахматы не только знание и логика, но и глубокая фантазия. Посредством шахмат я воспитал свой характер. Шахматы не просто модель жизни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ль творчества. Шахматы, прежде всего, учат быть объективными. В шахматах можно сделаться большим мастером, лишь осознав свои ошибки и недостатки. Совершенно также как и в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2"/>
          <p:cNvGrpSpPr/>
          <p:nvPr/>
        </p:nvGrpSpPr>
        <p:grpSpPr>
          <a:xfrm>
            <a:off x="762120" y="457200"/>
            <a:ext cx="7543800" cy="5486400"/>
            <a:chOff x="762120" y="457200"/>
            <a:chExt cx="7543800" cy="5486400"/>
          </a:xfrm>
        </p:grpSpPr>
        <p:pic>
          <p:nvPicPr>
            <p:cNvPr id="237" name="Рисунок 24" descr="&amp;Fcy;&amp;ocy;&amp;tcy;&amp;ocy; 16"/>
            <p:cNvPicPr/>
            <p:nvPr/>
          </p:nvPicPr>
          <p:blipFill>
            <a:blip r:embed="rId2"/>
            <a:stretch/>
          </p:blipFill>
          <p:spPr>
            <a:xfrm>
              <a:off x="762120" y="457200"/>
              <a:ext cx="75438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Прямоугольник 4"/>
            <p:cNvSpPr/>
            <p:nvPr/>
          </p:nvSpPr>
          <p:spPr>
            <a:xfrm>
              <a:off x="894600" y="5315040"/>
              <a:ext cx="30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www.kraskidetstva.ru/akcii1/zhivi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ДОБРО ПОЖАЛОВАТЬ!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1" name="Picture 2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43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2666880" y="4038480"/>
            <a:ext cx="410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3000" y="579240"/>
            <a:ext cx="393048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Давайте вспомним ценность шахматных фигур и вспомним состав чисел: 7, 13,9,15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Ладья – 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Конь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Слон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Ферзь – 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ешка – 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C:\Users\HP\Desktop\pkc86jirG.jpg"/>
          <p:cNvPicPr/>
          <p:nvPr/>
        </p:nvPicPr>
        <p:blipFill>
          <a:blip r:embed="rId1"/>
          <a:stretch/>
        </p:blipFill>
        <p:spPr>
          <a:xfrm>
            <a:off x="533520" y="2971800"/>
            <a:ext cx="393048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579240"/>
            <a:ext cx="797400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"Симметрия.Ось симметрии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Содержимое 8" descr="https://arhivurokov.ru/kopilka/uploads/user_file_566a958be11f1/user_file_566a958be11f1_1_4.png"/>
          <p:cNvPicPr/>
          <p:nvPr/>
        </p:nvPicPr>
        <p:blipFill>
          <a:blip r:embed="rId1"/>
          <a:stretch/>
        </p:blipFill>
        <p:spPr>
          <a:xfrm>
            <a:off x="5189400" y="240660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11" descr="https://arhivurokov.ru/kopilka/up/html/2017/05/11/k_5913dbdf638f8/414323_11.png"/>
          <p:cNvPicPr/>
          <p:nvPr/>
        </p:nvPicPr>
        <p:blipFill>
          <a:blip r:embed="rId2"/>
          <a:stretch/>
        </p:blipFill>
        <p:spPr>
          <a:xfrm>
            <a:off x="1066680" y="2590920"/>
            <a:ext cx="21639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i2"/>
          <p:cNvPicPr/>
          <p:nvPr/>
        </p:nvPicPr>
        <p:blipFill>
          <a:blip r:embed="rId2"/>
          <a:stretch/>
        </p:blipFill>
        <p:spPr>
          <a:xfrm>
            <a:off x="1981080" y="990720"/>
            <a:ext cx="5181840" cy="510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1219320" y="6019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ахматная до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– 2 =    4 (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– 2 =   2  (Ч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3 =    10 (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5 =   3   (Р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1 =   8   (Г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+ 2 =  5    (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2 =  6    (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53000" y="1069920"/>
          <a:ext cx="3930480" cy="1119240"/>
        </p:xfrm>
        <a:graphic>
          <a:graphicData uri="http://schemas.openxmlformats.org/drawingml/2006/table">
            <a:tbl>
              <a:tblPr/>
              <a:tblGrid>
                <a:gridCol w="436680"/>
                <a:gridCol w="334800"/>
                <a:gridCol w="538200"/>
                <a:gridCol w="436680"/>
                <a:gridCol w="438120"/>
                <a:gridCol w="436320"/>
                <a:gridCol w="436680"/>
                <a:gridCol w="436680"/>
                <a:gridCol w="436320"/>
              </a:tblGrid>
              <a:tr h="7509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82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2" descr="http://content.foto.mail.ru/mail/hg.bambus/14/h-62.jpg"/>
          <p:cNvPicPr/>
          <p:nvPr/>
        </p:nvPicPr>
        <p:blipFill>
          <a:blip r:embed="rId1"/>
          <a:stretch/>
        </p:blipFill>
        <p:spPr>
          <a:xfrm>
            <a:off x="5181480" y="2514600"/>
            <a:ext cx="2971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8-03-25T10:28:4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